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18E-84E7-40A4-B0CB-EE65E4B2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8F9-5FA7-48AA-A718-A091288F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E65-9EAC-4C79-8A37-E62DAD9C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1C3-479B-4920-AF65-BF1318E9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3444-CA09-4C26-AE7A-E630DCF6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C6B-E9A6-480E-B3EF-AB9FADAE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356-1DA4-49CF-99F3-B7BC5CF6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5140-5D14-44DE-929F-D4BDF67E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9A4B-2B62-4EFE-B41E-5085264A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0920-F3C1-4DDF-8EB2-A84A75B9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5ACF-73AB-474C-A5F9-00B6EC1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837-CD32-41BC-98ED-4C0FA737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187D-4C5F-4A90-9D51-804173B9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8AE7-0917-476E-A853-8A3480C5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3789-A473-4CE5-AB51-3C16471F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A2E8-9CC0-4A4D-9F4C-70EF8C59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BD0B-1329-47DE-866C-9629D199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F73-DE59-4615-8C5E-5D417429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932-34B8-4B27-99ED-885ADB4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42C-2084-401F-AFAA-1F94B61D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A54-FCA2-411C-AC88-E9104866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C38-EB1C-4234-B437-6E217708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522-1C75-4518-A24E-1BBC3CF5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4CA-070B-4BC7-AC16-B890E1C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6AAF-3738-4DA8-B7A4-106AE4A333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3332160"/>
            <a:ext cx="8763120" cy="2788920"/>
            <a:chOff x="0" y="3332160"/>
            <a:chExt cx="8763120" cy="2788920"/>
          </a:xfrm>
        </p:grpSpPr>
        <p:sp>
          <p:nvSpPr>
            <p:cNvPr id="49" name=""/>
            <p:cNvSpPr/>
            <p:nvPr/>
          </p:nvSpPr>
          <p:spPr>
            <a:xfrm>
              <a:off x="990720" y="3332160"/>
              <a:ext cx="7772400" cy="2788920"/>
            </a:xfrm>
            <a:prstGeom prst="rect">
              <a:avLst/>
            </a:prstGeom>
            <a:solidFill>
              <a:srgbClr val="33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38240" y="3593520"/>
              <a:ext cx="7648560" cy="244584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901040"/>
              <a:ext cx="990720" cy="0"/>
            </a:xfrm>
            <a:prstGeom prst="line">
              <a:avLst/>
            </a:prstGeom>
            <a:ln w="5076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53" name="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3391-CF1A-4F8C-93D9-3D2319C3AE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35200" y="1377720"/>
            <a:ext cx="70135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The New</a:t>
            </a:r>
            <a:br>
              <a:rPr sz="2400"/>
            </a:br>
            <a:r>
              <a:rPr b="0" lang="en-CA" sz="4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Emissions Modeling Framework</a:t>
            </a:r>
            <a:br>
              <a:rPr sz="4000"/>
            </a:br>
            <a:r>
              <a:rPr b="0" lang="en-CA" sz="3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Syste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82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Emissions Model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rc Houyoux, Madeleine Strum, Rich Mason, Norm Possi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David Misenheimer, Darryl Weatherhead, Larry Sorr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Bill Benjey, George Pouli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ntractor: UNC Institute for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Alison Eyth, Qun He, Alexis Zubrow, Darin Del Vecchio,</a:t>
            </a:r>
            <a:br>
              <a:rPr sz="1400"/>
            </a:b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Dongmei Y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521400" y="3576600"/>
          <a:ext cx="217008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1400" y="3576600"/>
                    <a:ext cx="217008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147800" y="3862440"/>
            <a:ext cx="12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ongIsland"/>
              </a:rPr>
              <a:t>E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38BC-D8A4-49EA-AEF1-E59B0E740A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QA Manager helps EP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s QA steps, who/when steps performed, &amp; QA status along with the data.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can easily find QA status of data. We can see the overall QA status, what QA steps complete, who performed steps, and the results. Users can add steps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QA steps by dataset version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know what steps were performed on each version. Helps prevent skipping Q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running SQL queries on the data to perform QA steps and summaries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Give us the flexibility and convenience of database queries. Runs within EMF and results stored for present and future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s of QA steps (queries) can be created and reused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Helps ensure QA of data gets done, decreases learning curve for new emissions mode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both automated (run by EMF) and external and/or manual QA steps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Gives us needed flexibility to get work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9E6-6211-4B2A-8495-789A46416A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Case Manager helps EP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a “Case” (e.g., SMOKE run) linked to datasets in Data Manager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have a single system to use for data handling and running SMO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all SMOKE-ready files needed for a SMOKE run with a few mouse clicks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aves time and prevents possible errors associated with manually writing out many data files &amp; formats from many other data 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interface for SMOKE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Reduces learning curve for new emissions modelers. We have a permanent record of SMOKE inputs, settings, and location of outp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s SMOKE jobs, preprocessing, and postprocessing to a compute server (“amber”) or EMF server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upports desktop access to data and SMOKE cases, while running at NCC compute cluster to meet computational needs.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F40-D7A2-41F1-9C9C-7F4B55B265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040" y="175212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How EPA is using the EMF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31760" y="3597120"/>
            <a:ext cx="7678800" cy="2444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42000" y="3589200"/>
            <a:ext cx="3444840" cy="24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81FE-06C6-4746-88A1-89C52F586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ses to d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6800" y="159984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r and Case “Inputs” functions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-based CAP platform v3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002, 2009, 2014, 2020, 203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-based CAP/HAP platform v3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zone NAAQS Fin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AQ’s Locomotive Marin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 2005-based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roit Multi-Pollutant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run using EMF Case Manag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KE 2020 base case to demonstrate we can replicate the “old” way of running SM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tion Tool runs for ORD to create SOA-enabled speciation profiles for SAPRC99 and CB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sectors on the 2002”ae” (v4 platform), 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4E1-92B6-4ABE-BE01-580CC21729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in FY 200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house efforts to setup EMF for operational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F work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n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“quick and easy” emissions sensitivity tool for AQ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O3 NAAQS RIA Mobile Control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x/SOx NAAQS RIA Control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SMOKE inpu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AQ’s Bond Rule and SECA / IMO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roit Multi-Pollutant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coming runs of SMOKE with EM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ae (v4)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ase runs for 2003, 2004, 2005, &amp; 2006 for CDC/Phase, CMAQ evaluation, and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24E-DD8A-4D78-A84C-3863F75ACF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fu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work to refine Data Manager, QA Manager with a more robust protocol, Case Manager,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OAQPS’s daily operations, EMF is assisting us manage emissions modeling for 8+ projects simultaneously with few staff and high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y for adapting to meet data management and modeling needs of others in AQAD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MF could be “Environmental Modeling Framework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adily adaptable to support other applications such as CMA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E96-7C82-4C35-B36F-0630F49C96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98720" y="2836800"/>
            <a:ext cx="520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dem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166-7066-4E86-8263-AB1DF48960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ver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status and 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PA is using the 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F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F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B25-2066-48E8-8F1B-204CB2356B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Motiv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imeliness, quality, and transparency of emissions data used in air quality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352680"/>
            <a:ext cx="1716120" cy="993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1680" y="3352680"/>
            <a:ext cx="1716120" cy="993960"/>
          </a:xfrm>
          <a:prstGeom prst="rect">
            <a:avLst/>
          </a:prstGeom>
          <a:solidFill>
            <a:srgbClr val="cc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missio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743200"/>
            <a:ext cx="1716120" cy="993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3886200"/>
            <a:ext cx="1716120" cy="993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590920"/>
            <a:ext cx="533520" cy="533160"/>
          </a:xfrm>
          <a:prstGeom prst="downArrow">
            <a:avLst>
              <a:gd name="adj1" fmla="val 42185"/>
              <a:gd name="adj2" fmla="val 622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5" idx="3"/>
            <a:endCxn id="106" idx="1"/>
          </p:cNvCxnSpPr>
          <p:nvPr/>
        </p:nvCxnSpPr>
        <p:spPr>
          <a:xfrm>
            <a:off x="3087360" y="3849480"/>
            <a:ext cx="440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1" name=""/>
          <p:cNvCxnSpPr>
            <a:stCxn id="106" idx="3"/>
            <a:endCxn id="107" idx="1"/>
          </p:cNvCxnSpPr>
          <p:nvPr/>
        </p:nvCxnSpPr>
        <p:spPr>
          <a:xfrm flipV="1">
            <a:off x="5272200" y="3239640"/>
            <a:ext cx="5198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2" name=""/>
          <p:cNvCxnSpPr>
            <a:stCxn id="106" idx="3"/>
            <a:endCxn id="108" idx="1"/>
          </p:cNvCxnSpPr>
          <p:nvPr/>
        </p:nvCxnSpPr>
        <p:spPr>
          <a:xfrm>
            <a:off x="5272200" y="3849480"/>
            <a:ext cx="51984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3" name=""/>
          <p:cNvSpPr/>
          <p:nvPr/>
        </p:nvSpPr>
        <p:spPr>
          <a:xfrm>
            <a:off x="3162240" y="4479840"/>
            <a:ext cx="256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ta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MOK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A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ndard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produc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EAD-6BCB-45BB-82B9-33E890068C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Goal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missions modeling faster and more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implement emissions modeling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data/processing transparency &amp;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with versions, metadata, QA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issions modeling applications and associat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queries and summ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needs for multi-pollutan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ools that can be used by EPA and others (e.g., RPOs, st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805800">
            <a:off x="894960" y="19112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805800">
            <a:off x="888480" y="23684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805800">
            <a:off x="888480" y="1477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805800">
            <a:off x="888480" y="40179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805800">
            <a:off x="888480" y="4430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622-42BA-4581-A1BF-F8D70142C7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0280" y="1300320"/>
            <a:ext cx="7834320" cy="5348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4800" y="457200"/>
            <a:ext cx="7967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capabilities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43160" y="1905120"/>
            <a:ext cx="6094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ata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ganizes/stores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s tracking of data changes using data vers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ports meta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A Manager” facilitates QA capabilities and tracking of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A steps, summaries, and que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s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ganizes model steps, inputs, &amp; parameters (e.g., SMOK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ns Emissions Modeling steps at NCC, records history and registers outpu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ol Strategy Tool (C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ores database of control “measures” (practices and technologi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ports user to create control strategies (multi-pollutant functionalit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lies controls to emission inventories for use in SMO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one in a multi-user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OKE and other tools are run from EMF, but are not within EM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3760" y="1916280"/>
            <a:ext cx="1243080" cy="2286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3760" y="2144880"/>
            <a:ext cx="1243080" cy="2286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44640" y="2908440"/>
            <a:ext cx="1255680" cy="4572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78000" y="1973160"/>
            <a:ext cx="414360" cy="22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54080" y="2378160"/>
            <a:ext cx="671760" cy="909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95560" y="3367080"/>
            <a:ext cx="528480" cy="900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5600" y="1371600"/>
            <a:ext cx="182520" cy="1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B92-0AA9-4BDB-BD73-54A1C92AC4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MF 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Development Status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and benefit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8240" y="3584520"/>
            <a:ext cx="7678800" cy="2454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294080" y="3578400"/>
            <a:ext cx="3695760" cy="24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1CE5-AD9D-43DE-9F83-261F6FC99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mel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160" y="3471840"/>
            <a:ext cx="7623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961640" y="3244680"/>
            <a:ext cx="11160" cy="331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736040" y="3244680"/>
            <a:ext cx="10800" cy="3238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3560" y="3244680"/>
            <a:ext cx="0" cy="327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65600" y="3244680"/>
            <a:ext cx="49320" cy="328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3600" y="3637080"/>
            <a:ext cx="68652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3960" y="3637080"/>
            <a:ext cx="68652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66880" y="3637080"/>
            <a:ext cx="68652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0800" y="3637080"/>
            <a:ext cx="68652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44480" y="26701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2680" y="221760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‘0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21600" y="26859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87680" y="26845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6320" y="1925640"/>
            <a:ext cx="99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r ’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te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se E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0120" y="4275000"/>
            <a:ext cx="10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 ‘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o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lo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545000" y="34815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49960" y="42418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 ’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esig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86000" y="34815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65280" y="5205240"/>
            <a:ext cx="1606680" cy="271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1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22440" y="5816520"/>
            <a:ext cx="2262240" cy="2714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35520" y="6149880"/>
            <a:ext cx="1619280" cy="2714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22400" y="6145200"/>
            <a:ext cx="3151080" cy="2714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s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09960" y="26733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1512720"/>
            <a:ext cx="996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n ‘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 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 Beta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ed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7920" y="5816520"/>
            <a:ext cx="2286000" cy="2714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3480" y="628812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71840" y="267804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43600" y="2014560"/>
            <a:ext cx="89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 ’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315040" y="3472920"/>
            <a:ext cx="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03760" y="4238640"/>
            <a:ext cx="1255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‘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v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53240" y="1714680"/>
            <a:ext cx="89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’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Mg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227720" y="34783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05640" y="4280040"/>
            <a:ext cx="125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‘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cc E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nea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35480" y="5219640"/>
            <a:ext cx="3510000" cy="271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1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3600" y="5484960"/>
            <a:ext cx="5300640" cy="27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72320" y="1903320"/>
            <a:ext cx="89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 ’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70720" y="2616120"/>
            <a:ext cx="309600" cy="852480"/>
          </a:xfrm>
          <a:custGeom>
            <a:avLst/>
            <a:gdLst/>
            <a:ahLst/>
            <a:rect l="l" t="t" r="r" b="b"/>
            <a:pathLst>
              <a:path w="195" h="537">
                <a:moveTo>
                  <a:pt x="0" y="0"/>
                </a:moveTo>
                <a:lnTo>
                  <a:pt x="0" y="256"/>
                </a:lnTo>
                <a:lnTo>
                  <a:pt x="195" y="256"/>
                </a:lnTo>
                <a:lnTo>
                  <a:pt x="187" y="53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391440" y="345744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45240" y="4248000"/>
            <a:ext cx="12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 ’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16520" y="2725560"/>
            <a:ext cx="816120" cy="746280"/>
          </a:xfrm>
          <a:custGeom>
            <a:avLst/>
            <a:gdLst/>
            <a:ahLst/>
            <a:rect l="l" t="t" r="r" b="b"/>
            <a:pathLst>
              <a:path w="514" h="470">
                <a:moveTo>
                  <a:pt x="8" y="0"/>
                </a:moveTo>
                <a:lnTo>
                  <a:pt x="0" y="304"/>
                </a:lnTo>
                <a:lnTo>
                  <a:pt x="514" y="312"/>
                </a:lnTo>
                <a:lnTo>
                  <a:pt x="509" y="4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14800" y="2111400"/>
            <a:ext cx="96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 ’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 ser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13680" y="2887560"/>
            <a:ext cx="815760" cy="235080"/>
          </a:xfrm>
          <a:custGeom>
            <a:avLst/>
            <a:gdLst/>
            <a:ahLst/>
            <a:rect l="l" t="t" r="r" b="b"/>
            <a:pathLst>
              <a:path w="514" h="148">
                <a:moveTo>
                  <a:pt x="0" y="148"/>
                </a:moveTo>
                <a:lnTo>
                  <a:pt x="514" y="148"/>
                </a:lnTo>
                <a:lnTo>
                  <a:pt x="5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95640" y="1730520"/>
            <a:ext cx="875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’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NC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TB di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37480" y="5489640"/>
            <a:ext cx="1001880" cy="258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06D-11A3-4068-BF3C-E62722FAC2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jor milestones met so f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91880" y="1676520"/>
            <a:ext cx="7365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F-funded components all exist in working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, including Q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Strategy Tool (Co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tial Surrogate T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tion T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obtained, installed, and running at N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QPS using EMF for supporting ongo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F training module created and training held at 2007 EPA Emission Inventory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64240" y="3384720"/>
            <a:ext cx="291960" cy="653760"/>
          </a:xfrm>
          <a:custGeom>
            <a:avLst/>
            <a:gdLst>
              <a:gd name="textAreaLeft" fmla="*/ 0 w 291960"/>
              <a:gd name="textAreaRight" fmla="*/ 105480 w 291960"/>
              <a:gd name="textAreaTop" fmla="*/ 16920 h 653760"/>
              <a:gd name="textAreaBottom" fmla="*/ 636840 h 65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62320" y="340848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reate challeng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OKE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7FE-F8BB-4959-9AE9-DCA2C7D40B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ata Manager helps EP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96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s data in a PostgreSQL database accessible by all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All team members can find the latest data. Others’ data changes shared. Access by staff other than emissions mode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datasets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can access both old and current versions of data, for reproducibility and transpar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can edit data in a user interface to the database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Conven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records metadata, such as who/when makes changes. Allows users to add what/why of changes and manual metadata entry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Eases our burden for keeping track of details other ways. Adds transparency after work is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SMOKE-ready files, including documentation in file headers.</a:t>
            </a: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aves us time &amp; prevents possible format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can better focus on analysis and modeling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F26-DA01-4FF1-B66D-623697883D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8:59:49Z</dcterms:created>
  <dc:creator>Marc Houyoux</dc:creator>
  <dc:description/>
  <dc:language>en-US</dc:language>
  <cp:lastModifiedBy>David Misenheimer</cp:lastModifiedBy>
  <dcterms:modified xsi:type="dcterms:W3CDTF">2008-01-17T13:56:42Z</dcterms:modified>
  <cp:revision>31</cp:revision>
  <dc:subject/>
  <dc:title>PowerPoint Presentation</dc:title>
</cp:coreProperties>
</file>